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6.wmf" ContentType="image/x-wmf"/>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E76A2-8883-4322-9E08-640559B71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0A54-DDF6-4CBB-BD7F-4EEB3CF5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38006-C736-4EC9-8FFC-D13385B3E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13876-30F0-415A-9697-81BF311FC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E3274-0854-4958-8DF0-2D4B53EC9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59593-319B-4094-B786-746C4B022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4E2D-0BB6-4F04-B3FF-6D10211A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32AB2-7D45-44CB-B352-FDB4E48EB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C1687-D54E-4E75-977F-1A3AC05FC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5BB1D-8E2B-4437-83A5-A79A31BD9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7EA1A-B505-4D2F-AD53-ACDAE1568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6DAE5-433C-45BF-A2DE-D09BAB3F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2762E-AFB6-43A9-B9C9-C487B33C1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CF1C7-1D7F-483A-A946-8F7AC6BB3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595A1-35F7-496F-A810-DA169C37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C61E4-9197-4E30-910E-993A00F29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EB5DE-DD50-4F2D-B153-39407C91E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F645-23E4-45B0-8820-93CF0A389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1AFFB-2250-4C4B-9B0F-35DE292F8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74EA-EEF4-4F43-8401-2D727048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E8CF4-8821-4E4D-8DE6-F24B114DE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CDB0-9F7B-47F0-8BD7-B2AA9A5F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C100-35A0-493B-9C16-82EEF63B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0D48-BBAC-407B-9DA8-E6066FAEA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4828-EFF3-4B9B-A5F6-3D343FF8D83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6804-DBB6-4B99-A17A-ABB711DE3D3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rd Outline Level</a:t>
            </a:r>
            <a:endParaRPr b="0" lang="en-US" sz="2200" spc="-1" strike="noStrike">
              <a:solidFill>
                <a:srgbClr val="ffffff"/>
              </a:solidFill>
              <a:latin typeface="Times New Roman"/>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evcos.ru/off-line/fun/evolution/middle_ages/the-Middle-Ages.jpg"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a/imgres?imgurl=http://home.earthlink.net/~fgilmand/gent3.jpg&amp;imgrefurl=http://home.earthlink.net/~fgilmand/ghent2.htm&amp;h=217&amp;w=340&amp;sz=21&amp;tbnid=m7VSKRqT9oUJ:&amp;tbnh=73&amp;tbnw=115&amp;hl=en&amp;start=221&amp;prev=/images%3Fq%3DMedieval%2BCastle%26start%3D220%26svnum%3D10%26hl%3Den%26lr%3D%26sa%3DN"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88" name="" descr="">
            <a:hlinkClick r:id="rId1"/>
          </p:cNvPr>
          <p:cNvPicPr/>
          <p:nvPr/>
        </p:nvPicPr>
        <p:blipFill>
          <a:blip r:embed="rId2"/>
          <a:stretch/>
        </p:blipFill>
        <p:spPr>
          <a:xfrm>
            <a:off x="2286000" y="1371600"/>
            <a:ext cx="4446720" cy="4724280"/>
          </a:xfrm>
          <a:prstGeom prst="rect">
            <a:avLst/>
          </a:prstGeom>
          <a:ln w="0">
            <a:noFill/>
          </a:ln>
        </p:spPr>
      </p:pic>
      <p:sp>
        <p:nvSpPr>
          <p:cNvPr id="89"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6600"/>
                </a:solidFill>
                <a:latin typeface="comic"/>
              </a:rPr>
              <a:t>Life in the Middle Ages</a:t>
            </a:r>
            <a:endParaRPr b="0" lang="en-US" sz="5000" spc="-1" strike="noStrike">
              <a:solidFill>
                <a:srgbClr val="ffffff"/>
              </a:solidFill>
              <a:latin typeface="Garamond"/>
            </a:endParaRPr>
          </a:p>
        </p:txBody>
      </p:sp>
      <p:sp>
        <p:nvSpPr>
          <p:cNvPr id="90" name="PlaceHolder 2"/>
          <p:cNvSpPr>
            <a:spLocks noGrp="1"/>
          </p:cNvSpPr>
          <p:nvPr>
            <p:ph type="subTitle"/>
          </p:nvPr>
        </p:nvSpPr>
        <p:spPr>
          <a:xfrm>
            <a:off x="1371600" y="6172200"/>
            <a:ext cx="6400800" cy="457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a:rPr>
              <a:t>500 C.E. to 1400 C.E.</a:t>
            </a: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0BC2BD87-1A44-41C3-B32E-B0E4AB64E146}"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Vikings!</a:t>
            </a:r>
            <a:endParaRPr b="0" lang="en-US" sz="4200" spc="-1" strike="noStrike">
              <a:solidFill>
                <a:srgbClr val="ffffff"/>
              </a:solidFill>
              <a:latin typeface="Garamond"/>
            </a:endParaRPr>
          </a:p>
        </p:txBody>
      </p:sp>
      <p:grpSp>
        <p:nvGrpSpPr>
          <p:cNvPr id="113" name=""/>
          <p:cNvGrpSpPr/>
          <p:nvPr/>
        </p:nvGrpSpPr>
        <p:grpSpPr>
          <a:xfrm>
            <a:off x="1981080" y="1295280"/>
            <a:ext cx="5029200" cy="4648320"/>
            <a:chOff x="1981080" y="1295280"/>
            <a:chExt cx="5029200" cy="4648320"/>
          </a:xfrm>
        </p:grpSpPr>
        <p:pic>
          <p:nvPicPr>
            <p:cNvPr id="114" name="" descr=""/>
            <p:cNvPicPr/>
            <p:nvPr/>
          </p:nvPicPr>
          <p:blipFill>
            <a:blip r:embed="rId1"/>
            <a:stretch/>
          </p:blipFill>
          <p:spPr>
            <a:xfrm>
              <a:off x="1981080" y="1295280"/>
              <a:ext cx="5029200" cy="4648320"/>
            </a:xfrm>
            <a:prstGeom prst="rect">
              <a:avLst/>
            </a:prstGeom>
            <a:ln w="0">
              <a:noFill/>
            </a:ln>
          </p:spPr>
        </p:pic>
        <p:sp>
          <p:nvSpPr>
            <p:cNvPr id="115" name=""/>
            <p:cNvSpPr txBox="1"/>
            <p:nvPr/>
          </p:nvSpPr>
          <p:spPr>
            <a:xfrm>
              <a:off x="1981080" y="1295280"/>
              <a:ext cx="5029200" cy="4648320"/>
            </a:xfrm>
            <a:prstGeom prst="rect">
              <a:avLst/>
            </a:prstGeom>
            <a:noFill/>
            <a:ln w="0">
              <a:noFill/>
            </a:ln>
          </p:spPr>
          <p:txBody>
            <a:bodyPr lIns="90000" rIns="90000" tIns="46800" bIns="46800" anchor="t">
              <a:normAutofit/>
            </a:bodyPr>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grpSp>
      <p:sp>
        <p:nvSpPr>
          <p:cNvPr id="3" name="PlaceHolder 2"/>
          <p:cNvSpPr>
            <a:spLocks noGrp="1"/>
          </p:cNvSpPr>
          <p:nvPr>
            <p:ph type="sldNum" idx="3"/>
          </p:nvPr>
        </p:nvSpPr>
        <p:spPr/>
        <p:txBody>
          <a:bodyPr/>
          <a:p>
            <a:fld id="{2DC8DD65-55A2-4E01-8F09-7E8B4F46620B}"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14400" y="609480"/>
            <a:ext cx="7972560" cy="5183280"/>
          </a:xfrm>
          <a:prstGeom prst="rect">
            <a:avLst/>
          </a:prstGeom>
          <a:ln w="0">
            <a:noFill/>
          </a:ln>
        </p:spPr>
      </p:pic>
      <p:sp>
        <p:nvSpPr>
          <p:cNvPr id="117" name=""/>
          <p:cNvSpPr/>
          <p:nvPr/>
        </p:nvSpPr>
        <p:spPr>
          <a:xfrm>
            <a:off x="3886200" y="914400"/>
            <a:ext cx="50292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5 m by 5 m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 pairs of oar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ilt around 800 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nd in burial mound in Norway</a:t>
            </a:r>
            <a:endParaRPr b="0" lang="en-US" sz="1800" spc="-1" strike="noStrike">
              <a:solidFill>
                <a:srgbClr val="ffffff"/>
              </a:solidFill>
              <a:latin typeface="Arial"/>
            </a:endParaRPr>
          </a:p>
        </p:txBody>
      </p:sp>
      <p:pic>
        <p:nvPicPr>
          <p:cNvPr id="118" name="" descr=""/>
          <p:cNvPicPr/>
          <p:nvPr/>
        </p:nvPicPr>
        <p:blipFill>
          <a:blip r:embed="rId2"/>
          <a:stretch/>
        </p:blipFill>
        <p:spPr>
          <a:xfrm>
            <a:off x="0" y="0"/>
            <a:ext cx="1676520" cy="1527120"/>
          </a:xfrm>
          <a:prstGeom prst="rect">
            <a:avLst/>
          </a:prstGeom>
          <a:ln w="0">
            <a:noFill/>
          </a:ln>
        </p:spPr>
      </p:pic>
      <p:sp>
        <p:nvSpPr>
          <p:cNvPr id="119" name=""/>
          <p:cNvSpPr txBox="1"/>
          <p:nvPr/>
        </p:nvSpPr>
        <p:spPr>
          <a:xfrm rot="5400000">
            <a:off x="-1928880" y="3605040"/>
            <a:ext cx="449568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agon Boat</a:t>
            </a:r>
            <a:endParaRPr b="0" lang="en-US" sz="18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sldNum" idx="3"/>
          </p:nvPr>
        </p:nvSpPr>
        <p:spPr/>
        <p:txBody>
          <a:bodyPr/>
          <a:p>
            <a:fld id="{6EE5958F-54B3-43C1-9DB0-82FE6EB59ABF}"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533520" y="41148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With settlement in Europe eventually Christianity is adopte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51C9C851-4CC0-41B3-BFED-6356143AE52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Life of Viking </a:t>
            </a:r>
            <a:endParaRPr b="0" lang="en-US" sz="4200" spc="-1" strike="noStrike">
              <a:solidFill>
                <a:srgbClr val="ffffff"/>
              </a:solidFill>
              <a:latin typeface="Garamond"/>
            </a:endParaRPr>
          </a:p>
        </p:txBody>
      </p:sp>
      <p:sp>
        <p:nvSpPr>
          <p:cNvPr id="123" name="PlaceHolder 2"/>
          <p:cNvSpPr>
            <a:spLocks noGrp="1"/>
          </p:cNvSpPr>
          <p:nvPr>
            <p:ph/>
          </p:nvPr>
        </p:nvSpPr>
        <p:spPr>
          <a:xfrm>
            <a:off x="456840" y="990720"/>
            <a:ext cx="8077320" cy="5140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Vikings come from present day Sweden, Norway and Denmark</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y were merchants, warriors, and pillagers due to the lack of arable land in their home countr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ventually permanent settlements will be made and Vikings will become part of the fabric of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vel as far as Bagdad but were unsuccessful as permanent Middle Eastern residents due to the power of Islam centralism.</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de: furs, tusks, seal fat for boat sealant and slaves. </a:t>
            </a:r>
            <a:endParaRPr b="0" lang="en-US" sz="26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4" name=""/>
          <p:cNvSpPr/>
          <p:nvPr/>
        </p:nvSpPr>
        <p:spPr>
          <a:xfrm>
            <a:off x="5562720" y="6164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e video clip on wiki</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2C0EFFC-9466-45D6-991D-65B4C8E2C8AB}"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ords and Vassals</a:t>
            </a:r>
            <a:endParaRPr b="0" lang="en-US" sz="4200" spc="-1" strike="noStrike">
              <a:solidFill>
                <a:srgbClr val="fffff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s would hire Vassals providing them with land (Fiefs) in order to have their loyalty and military capability.</a:t>
            </a:r>
            <a:endParaRPr b="0" lang="en-US" sz="26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assals would be provided for and have wealth (land holdings), Lords would have loyalty and insurance of power</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assals could also have vassals creating a hierarchy or lord-vassal relationship and greater and lesser landowners.  A relationship between free man not servitude.</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Known as the Feudal Contract!</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C2017B74-D984-441E-95A7-987C67FEC847}"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Feudal Contract </a:t>
            </a:r>
            <a:endParaRPr b="0" lang="en-US" sz="4200" spc="-1" strike="noStrike">
              <a:solidFill>
                <a:srgbClr val="ffffff"/>
              </a:solidFill>
              <a:latin typeface="Garamond"/>
            </a:endParaRPr>
          </a:p>
        </p:txBody>
      </p:sp>
      <p:sp>
        <p:nvSpPr>
          <p:cNvPr id="128" name="PlaceHolder 2"/>
          <p:cNvSpPr>
            <a:spLocks noGrp="1"/>
          </p:cNvSpPr>
          <p:nvPr>
            <p:ph/>
          </p:nvPr>
        </p:nvSpPr>
        <p:spPr>
          <a:xfrm>
            <a:off x="2590560" y="1599840"/>
            <a:ext cx="609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tract between Lord and Vassal:</a:t>
            </a:r>
            <a:endParaRPr b="0" lang="en-US" sz="30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 is responsible for his vassal’s maintenance:</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rant the vassal a fief</a:t>
            </a:r>
            <a:endParaRPr b="0" lang="en-US" sz="2200" spc="-1" strike="noStrike">
              <a:solidFill>
                <a:srgbClr val="ffffff"/>
              </a:solidFill>
              <a:latin typeface="Times New Roman"/>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 is responsible for his vassal’s protection</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litarily or in court</a:t>
            </a:r>
            <a:endParaRPr b="0" lang="en-US" sz="2200" spc="-1" strike="noStrike">
              <a:solidFill>
                <a:srgbClr val="ffffff"/>
              </a:solidFill>
              <a:latin typeface="Times New Roman"/>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29" name="" descr="">
            <a:hlinkClick r:id="rId1"/>
          </p:cNvPr>
          <p:cNvPicPr/>
          <p:nvPr/>
        </p:nvPicPr>
        <p:blipFill>
          <a:blip r:embed="rId2"/>
          <a:stretch/>
        </p:blipFill>
        <p:spPr>
          <a:xfrm>
            <a:off x="7010280" y="5205240"/>
            <a:ext cx="2133720" cy="1652760"/>
          </a:xfrm>
          <a:prstGeom prst="rect">
            <a:avLst/>
          </a:prstGeom>
          <a:ln w="0">
            <a:noFill/>
          </a:ln>
        </p:spPr>
      </p:pic>
      <p:pic>
        <p:nvPicPr>
          <p:cNvPr id="130" name="" descr=""/>
          <p:cNvPicPr/>
          <p:nvPr/>
        </p:nvPicPr>
        <p:blipFill>
          <a:blip r:embed="rId3"/>
          <a:stretch/>
        </p:blipFill>
        <p:spPr>
          <a:xfrm>
            <a:off x="380880" y="228600"/>
            <a:ext cx="2130480" cy="6431040"/>
          </a:xfrm>
          <a:prstGeom prst="rect">
            <a:avLst/>
          </a:prstGeom>
          <a:ln w="0">
            <a:noFill/>
          </a:ln>
        </p:spPr>
      </p:pic>
      <p:sp>
        <p:nvSpPr>
          <p:cNvPr id="4" name="PlaceHolder 3"/>
          <p:cNvSpPr>
            <a:spLocks noGrp="1"/>
          </p:cNvSpPr>
          <p:nvPr>
            <p:ph type="sldNum" idx="3"/>
          </p:nvPr>
        </p:nvSpPr>
        <p:spPr/>
        <p:txBody>
          <a:bodyPr/>
          <a:p>
            <a:fld id="{E24840FB-C1EC-429E-9F33-EDADA974D83A}"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0"/>
            <a:ext cx="8763120" cy="35812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bligation of a Vassal to his Lord:</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rform military service (40 days/year)</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ppear at court when summoned to give advice to the Lord</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t it judgment in a legal case</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vide aid or financial payments to the lord</a:t>
            </a:r>
            <a:endParaRPr b="0" lang="en-US" sz="26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nighting of the lord’s eldest son</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marriage of his eldest daughter</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ransom of a captured lord </a:t>
            </a:r>
            <a:endParaRPr b="0" lang="en-US" sz="2200" spc="-1" strike="noStrike">
              <a:solidFill>
                <a:srgbClr val="ffffff"/>
              </a:solidFill>
              <a:latin typeface="Times New Roman"/>
            </a:endParaRPr>
          </a:p>
        </p:txBody>
      </p:sp>
      <p:pic>
        <p:nvPicPr>
          <p:cNvPr id="132" name="" descr=""/>
          <p:cNvPicPr/>
          <p:nvPr/>
        </p:nvPicPr>
        <p:blipFill>
          <a:blip r:embed="rId1"/>
          <a:stretch/>
        </p:blipFill>
        <p:spPr>
          <a:xfrm>
            <a:off x="2209680" y="3352680"/>
            <a:ext cx="4724640" cy="3184560"/>
          </a:xfrm>
          <a:prstGeom prst="rect">
            <a:avLst/>
          </a:prstGeom>
          <a:ln w="0">
            <a:noFill/>
          </a:ln>
        </p:spPr>
      </p:pic>
      <p:sp>
        <p:nvSpPr>
          <p:cNvPr id="3" name="PlaceHolder 2"/>
          <p:cNvSpPr>
            <a:spLocks noGrp="1"/>
          </p:cNvSpPr>
          <p:nvPr>
            <p:ph type="sldNum" idx="3"/>
          </p:nvPr>
        </p:nvSpPr>
        <p:spPr/>
        <p:txBody>
          <a:bodyPr/>
          <a:p>
            <a:fld id="{630CC90F-CA0E-4526-8E7D-8C8B4E05F131}"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971720" y="-14400"/>
            <a:ext cx="5200560" cy="6886800"/>
          </a:xfrm>
          <a:prstGeom prst="rect">
            <a:avLst/>
          </a:prstGeom>
          <a:ln w="0">
            <a:noFill/>
          </a:ln>
        </p:spPr>
      </p:pic>
      <p:sp>
        <p:nvSpPr>
          <p:cNvPr id="134" name=""/>
          <p:cNvSpPr/>
          <p:nvPr/>
        </p:nvSpPr>
        <p:spPr>
          <a:xfrm>
            <a:off x="304920" y="1523880"/>
            <a:ext cx="1371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ds were made up of:</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ings, dukes, counts, barons, and viscounts (even bishops and archbishops)</a:t>
            </a:r>
            <a:endParaRPr b="0" lang="en-US" sz="1800" spc="-1" strike="noStrike">
              <a:solidFill>
                <a:srgbClr val="ffffff"/>
              </a:solidFill>
              <a:latin typeface="Arial"/>
            </a:endParaRPr>
          </a:p>
        </p:txBody>
      </p:sp>
      <p:sp>
        <p:nvSpPr>
          <p:cNvPr id="135" name=""/>
          <p:cNvSpPr/>
          <p:nvPr/>
        </p:nvSpPr>
        <p:spPr>
          <a:xfrm>
            <a:off x="7467480" y="1752480"/>
            <a:ext cx="1447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istocracy held up politics, economics, and social power.</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380E512-961D-4667-A9D4-8EC59CD8F20A}"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medieval expansion of Europe, 1000-1250 C.E.</a:t>
            </a:r>
            <a:endParaRPr b="0" lang="en-US" sz="3800" spc="-1" strike="noStrike">
              <a:solidFill>
                <a:srgbClr val="ffffff"/>
              </a:solidFill>
              <a:latin typeface="Garamond"/>
            </a:endParaRPr>
          </a:p>
        </p:txBody>
      </p:sp>
      <p:pic>
        <p:nvPicPr>
          <p:cNvPr id="137" name="" descr=""/>
          <p:cNvPicPr/>
          <p:nvPr/>
        </p:nvPicPr>
        <p:blipFill>
          <a:blip r:embed="rId1"/>
          <a:stretch/>
        </p:blipFill>
        <p:spPr>
          <a:xfrm>
            <a:off x="1630440" y="1600200"/>
            <a:ext cx="5883120" cy="4530600"/>
          </a:xfrm>
          <a:prstGeom prst="rect">
            <a:avLst/>
          </a:prstGeom>
          <a:ln w="0">
            <a:noFill/>
          </a:ln>
        </p:spPr>
      </p:pic>
      <p:sp>
        <p:nvSpPr>
          <p:cNvPr id="3" name="PlaceHolder 2"/>
          <p:cNvSpPr>
            <a:spLocks noGrp="1"/>
          </p:cNvSpPr>
          <p:nvPr>
            <p:ph type="sldNum" idx="3"/>
          </p:nvPr>
        </p:nvSpPr>
        <p:spPr/>
        <p:txBody>
          <a:bodyPr/>
          <a:p>
            <a:fld id="{2F9B0D58-00F5-4601-B6F0-4F610385379C}"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ensions between Emperors and the Church</a:t>
            </a:r>
            <a:endParaRPr b="0" lang="en-US" sz="3800" spc="-1" strike="noStrike">
              <a:solidFill>
                <a:srgbClr val="ffffff"/>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vestiture Contest, late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early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Gregory VII (1073-1085) attempts to end practice of lay investitur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communicates Emperor Henry IV (1056-1106 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 peoples take opportunity to rebel</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Quashed with difficult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033C2DB8-FE75-4BC0-AA28-FA7F73DA509A}"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hapter 12</a:t>
            </a:r>
            <a:endParaRPr b="0" lang="en-US" sz="5000" spc="-1" strike="noStrike">
              <a:solidFill>
                <a:srgbClr val="ffffff"/>
              </a:solidFill>
              <a:latin typeface="Garamond"/>
            </a:endParaRPr>
          </a:p>
        </p:txBody>
      </p:sp>
      <p:sp>
        <p:nvSpPr>
          <p:cNvPr id="92" name="PlaceHolder 2"/>
          <p:cNvSpPr>
            <a:spLocks noGrp="1"/>
          </p:cNvSpPr>
          <p:nvPr>
            <p:ph type="subTitle"/>
          </p:nvPr>
        </p:nvSpPr>
        <p:spPr>
          <a:xfrm>
            <a:off x="533160" y="3962520"/>
            <a:ext cx="80010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ormation of the Roman World</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Lower Middle Ages</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hristian Church</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udalism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stern Europe During the High Middle Ages</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547FE108-2FDB-4B72-A925-D9B0EE66381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Frederick Barbarossa (r. 1152-1190 CE)</a:t>
            </a:r>
            <a:endParaRPr b="0" lang="en-US" sz="3800" spc="-1" strike="noStrike">
              <a:solidFill>
                <a:srgbClr val="ffffff"/>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derick I, “red bear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tempt to absorb Lombardy (northern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s did not want him to gain that much power, enlisted aid from other stat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derick forced to back dow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D2332B8-DC14-4AC8-9B21-ADDCF31D711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Regional Monarchies: France and England</a:t>
            </a:r>
            <a:endParaRPr b="0" lang="en-US" sz="3800" spc="-1" strike="noStrike">
              <a:solidFill>
                <a:srgbClr val="ffffff"/>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petian Franc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ugh Capet succeeds last Carolingian Emperor, 987 C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lowly expands authority out from Pari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rmans in England</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scendants of Vikings, settled in Franc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vade England in 1066 under William the Conqueror</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minate Angles, Saxons, and other Germanic groups</a:t>
            </a:r>
            <a:endParaRPr b="0" lang="en-US" sz="2600" spc="-1" strike="noStrike">
              <a:solidFill>
                <a:srgbClr val="ffffff"/>
              </a:solidFill>
              <a:latin typeface="Times New Roman"/>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DAA5983-079D-4865-B7E4-F3326FF3F575}"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taly</a:t>
            </a:r>
            <a:endParaRPr b="0" lang="en-US" sz="4200" spc="-1" strike="noStrike">
              <a:solidFill>
                <a:srgbClr val="ffffff"/>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ries of ecclesiastical states, city-states, and principali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apal State directly controlled by Pope, good-sized territory in central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city-states increasingly displace church control in northern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rmans invade southern Italy, displace Byzantine and Muslim authorities</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D34E019-4FC0-44BC-9F02-DB29F65BF1A8}"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berian Peninsula</a:t>
            </a:r>
            <a:endParaRPr b="0" lang="en-US" sz="4200" spc="-1" strike="noStrike">
              <a:solidFill>
                <a:srgbClr val="ffffff"/>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uslims control Iberian peninsula, 8</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om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on, Christian conquest of Spanish Muslim territo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te 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Muslims remain only in Granada</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B999D9D-8937-4AF8-92D2-E63A4AEF8ED6}"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imeline Assignment</a:t>
            </a:r>
            <a:endParaRPr b="0" lang="en-US" sz="4200" spc="-1" strike="noStrike">
              <a:solidFill>
                <a:srgbClr val="ffffff"/>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e Handout</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BD07C3C-6CCC-46EB-AD22-EE91EAC3C8D7}"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Growth of the Agricultural Economy</a:t>
            </a:r>
            <a:endParaRPr b="0" lang="en-US" sz="4200" spc="-1" strike="noStrike">
              <a:solidFill>
                <a:srgbClr val="ffffff"/>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creasing development of arable land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inimized threat of invading nomad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earing of swamps, forests in Northern Europe</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proved agricultural techniqu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rop rotation ½ to 2/3 fallow </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crops, esp. bean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rseshoes, horse collars (horses faster than oxe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E0468B0-F3C8-4098-8864-67CC12ECE200}"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uropean Population Growth, 800-1300 CE</a:t>
            </a:r>
            <a:endParaRPr b="0" lang="en-US" sz="3800" spc="-1" strike="noStrike">
              <a:solidFill>
                <a:srgbClr val="ffffff"/>
              </a:solidFill>
              <a:latin typeface="Garamond"/>
            </a:endParaRPr>
          </a:p>
        </p:txBody>
      </p:sp>
      <p:graphicFrame>
        <p:nvGraphicFramePr>
          <p:cNvPr id="153" name=""/>
          <p:cNvGraphicFramePr/>
          <p:nvPr/>
        </p:nvGraphicFramePr>
        <p:xfrm>
          <a:off x="460440" y="1600200"/>
          <a:ext cx="8223120" cy="4530600"/>
        </p:xfrm>
        <a:graphic>
          <a:graphicData uri="http://schemas.openxmlformats.org/presentationml/2006/ole">
            <p:oleObj r:id="rId1" spid="">
              <p:embed/>
              <p:pic>
                <p:nvPicPr>
                  <p:cNvPr id="154"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00CF3951-2426-4715-93B5-0028AFBEDBEE}"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vival of Towns and Trade</a:t>
            </a:r>
            <a:endParaRPr b="0" lang="en-US" sz="4200" spc="-1" strike="noStrike">
              <a:solidFill>
                <a:srgbClr val="fffff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rbanization follows increase in food supp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ecialization of labor</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xtile production</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terranean Trad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aly well-positioned for sea trad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alian colonies established in major ports of Mediterranean, Black sea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829D0FC6-D555-412C-AAD2-9CA37863AB1C}"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Hanseatic League</a:t>
            </a:r>
            <a:endParaRPr b="0" lang="en-US" sz="4200" spc="-1" strike="noStrike">
              <a:solidFill>
                <a:srgbClr val="fffff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r>
              <a:rPr b="0" lang="en-US" sz="3000" spc="-1" strike="noStrike">
                <a:solidFill>
                  <a:srgbClr val="ffffff"/>
                </a:solidFill>
                <a:latin typeface="Times New Roman"/>
              </a:rPr>
              <a:t>Hansa,” association of trading ci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de in Baltic and North sea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ander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and, northern German, Scandinavia</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2D5E1CF-94E0-4731-ADBF-85BA70703495}"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ocial Change</a:t>
            </a:r>
            <a:endParaRPr b="0" lang="en-US" sz="4200" spc="-1" strike="noStrike">
              <a:solidFill>
                <a:srgbClr val="fffff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hree Estat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pray: clergy</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fight: knight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work: peasan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versimplification of complex social reality</a:t>
            </a:r>
            <a:endParaRPr b="0" lang="en-US" sz="30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1173EC8A-9B60-4538-869F-8EB3B1E495C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oman to German</a:t>
            </a:r>
            <a:endParaRPr b="0" lang="en-US" sz="4200" spc="-1" strike="noStrike">
              <a:solidFill>
                <a:srgbClr val="ffffff"/>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holicism spreads into Europe through Clovis (482-511) a Germanic King</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s and Romans intermingle due to transition of power to Germanic Kingdoms as the Roman structures declin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s Kingdoms – not as enlightened as the Rom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xample: Court systems vs.  Wergeld (money for a man) and The Ordeal</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B4E6BEE0-2F24-4217-AABC-DCCB4C99242E}"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hivalry</a:t>
            </a:r>
            <a:endParaRPr b="0" lang="en-US" sz="4200" spc="-1" strike="noStrike">
              <a:solidFill>
                <a:srgbClr val="fffff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de of conduct for nobl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onsored by Church to minimize fighting among Christia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echnically, knight to dedicate his efforts to promotion of Christianit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tection of wome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B66EFFAE-59FC-46E4-816F-5BD301D5E41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roubadours</a:t>
            </a:r>
            <a:endParaRPr b="0" lang="en-US" sz="4200" spc="-1" strike="noStrike">
              <a:solidFill>
                <a:srgbClr val="ffffff"/>
              </a:solidFill>
              <a:latin typeface="Garamond"/>
            </a:endParaRPr>
          </a:p>
        </p:txBody>
      </p:sp>
      <p:sp>
        <p:nvSpPr>
          <p:cNvPr id="164" name="PlaceHolder 2"/>
          <p:cNvSpPr>
            <a:spLocks noGrp="1"/>
          </p:cNvSpPr>
          <p:nvPr>
            <p:ph/>
          </p:nvPr>
        </p:nvSpPr>
        <p:spPr>
          <a:xfrm>
            <a:off x="457200" y="1599840"/>
            <a:ext cx="54100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ass of traveling poets, minstrels, entertainer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rrowed Islamic traditions of love poetry</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pread of cultural ideas to Europe</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pular among aristocratic women</a:t>
            </a:r>
            <a:endParaRPr b="0" lang="en-US" sz="22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eanor of Aquitaine (1122-1204) major supporter</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pularization of idea of romantic love, refinement of European knights</a:t>
            </a:r>
            <a:endParaRPr b="0" lang="en-US" sz="2600" spc="-1" strike="noStrike">
              <a:solidFill>
                <a:srgbClr val="ffffff"/>
              </a:solidFill>
              <a:latin typeface="Times New Roman"/>
            </a:endParaRPr>
          </a:p>
        </p:txBody>
      </p:sp>
      <p:pic>
        <p:nvPicPr>
          <p:cNvPr id="165" name="" descr=""/>
          <p:cNvPicPr/>
          <p:nvPr/>
        </p:nvPicPr>
        <p:blipFill>
          <a:blip r:embed="rId1"/>
          <a:stretch/>
        </p:blipFill>
        <p:spPr>
          <a:xfrm>
            <a:off x="5867280" y="1752480"/>
            <a:ext cx="3276720" cy="3276720"/>
          </a:xfrm>
          <a:prstGeom prst="rect">
            <a:avLst/>
          </a:prstGeom>
          <a:ln w="0">
            <a:noFill/>
          </a:ln>
        </p:spPr>
      </p:pic>
      <p:sp>
        <p:nvSpPr>
          <p:cNvPr id="4" name="PlaceHolder 3"/>
          <p:cNvSpPr>
            <a:spLocks noGrp="1"/>
          </p:cNvSpPr>
          <p:nvPr>
            <p:ph type="sldNum" idx="3"/>
          </p:nvPr>
        </p:nvSpPr>
        <p:spPr/>
        <p:txBody>
          <a:bodyPr/>
          <a:p>
            <a:fld id="{1A636136-F772-4B90-B84F-B496568CC513}"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ndependent Cities</a:t>
            </a:r>
            <a:endParaRPr b="0" lang="en-US" sz="4200" spc="-1" strike="noStrike">
              <a:solidFill>
                <a:srgbClr val="ffffff"/>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ditions to class of “those who work”</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rchants, artisans, physicians, lawyers, etc.</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wkward fit into tripartite caste syste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late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towns demand charters of integration for greater self-government</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4A37C477-D418-4D2C-ADA9-D6B721938E26}"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Guilds</a:t>
            </a:r>
            <a:endParaRPr b="0" lang="en-US" sz="4200" spc="-1" strike="noStrike">
              <a:solidFill>
                <a:srgbClr val="ffffff"/>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rganizations of merchants, workers, artisa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guilds control good portion of urban econom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ce and quality control</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mbership</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eated social support network</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pprentice </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urneyman</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ster Crafter </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B08EAAEC-0941-40CF-93D4-D719849A4368}"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rban Women</a:t>
            </a:r>
            <a:endParaRPr b="0" lang="en-US" sz="4200" spc="-1" strike="noStrike">
              <a:solidFill>
                <a:srgbClr val="ffffff"/>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w economic opportunities for wome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minated needle trad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resentation in wide variety of trad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mitted to most guild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guilds for women onl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3667669-CA4F-4FF8-949D-D9E0DEA87C6B}"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athedral Schools</a:t>
            </a:r>
            <a:endParaRPr b="0" lang="en-US" sz="4200" spc="-1" strike="noStrike">
              <a:solidFill>
                <a:srgbClr val="ffffff"/>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uring early middle ages, European society too unstable to provide institutions of advanced learning</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rudimentary education at monasteries, occasional scholars at court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gh middle ages (1000-1300 CE) increasing wealth makes education possibl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chools based in cathedral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urriculum of Latin writings</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iterature, philosophy, some law, medicine, theology</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97A7F964-1125-49A1-8FB7-B8824C09642D}"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niversities</a:t>
            </a:r>
            <a:endParaRPr b="0" lang="en-US" sz="4200" spc="-1" strike="noStrike">
              <a:solidFill>
                <a:srgbClr val="ffffff"/>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ademic guilds formed in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oth student and faculty organizatio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igher standards of education promote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eatment of students in town major source of concer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4BCBF12-B6BF-4CED-8525-203A6683173D}"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Influence of Aristotle</a:t>
            </a:r>
            <a:endParaRPr b="0" lang="en-US" sz="4200" spc="-1" strike="noStrike">
              <a:solidFill>
                <a:srgbClr val="ffffff"/>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tin translations of Byzantine Greek texts circulate in Europ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ewish and Muslim scholars provide other translations from Arabic translatio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 Thomas Aquinas (1225-1274), major proponent of Scholasticism</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ynthesis of Christianity and Aristotl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iversity of Pari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0178309E-DC90-4DCE-B47F-614826BA6B6D}"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r Religion</a:t>
            </a:r>
            <a:endParaRPr b="0" lang="en-US" sz="4200" spc="-1" strike="noStrike">
              <a:solidFill>
                <a:srgbClr val="ffffff"/>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ulation at large remained unaffected by Scholasticis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Seven Sacraments gain ritual popularit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sp. Eucharist</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votion to Saint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eavenly intercession, pilgrimages, veneration of relic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Virgin Mar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EC48FD2-377F-4FE7-8FB5-EC9EFA567738}"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ligious Movements</a:t>
            </a:r>
            <a:endParaRPr b="0" lang="en-US" sz="4200" spc="-1" strike="noStrike">
              <a:solidFill>
                <a:srgbClr val="ffffff"/>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bellion against perceived materialism of Roman Catholic Church</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minic (1170-1221) and St. Francis (1182-1226) create orders of mendicants</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ws of poverty</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minic will create the Dominicans who will play roles as the inquisitors of the papal Inquisition</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ular preacher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zealots, very opposed to heretical movements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B30D988-57EA-4A54-8DE4-48488012ABBB}"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oman Catholic Church</a:t>
            </a:r>
            <a:endParaRPr b="0" lang="en-US" sz="4200" spc="-1" strike="noStrike">
              <a:solidFill>
                <a:srgbClr val="ffffff"/>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ugh Clovis and the Monastic Movement the conversion of Europe to Catholicism began</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nastic Movement is the creation of the monk – give up worldly trappings, chastity, poverty, and obedience to God and Church</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reat Catholic cities ruled by bishops or dioceses were Rome, Jerusalem, Alexandria, and Antioch</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urrently – Italy, Israel, Egypt, and Turkey</a:t>
            </a:r>
            <a:endParaRPr b="0" lang="en-US" sz="2600" spc="-1" strike="noStrike">
              <a:solidFill>
                <a:srgbClr val="ffffff"/>
              </a:solidFill>
              <a:latin typeface="Times New Roman"/>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68FB50D1-C914-4B1B-AC45-2AA9C7796A79}"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Popular Heresy (southern France, northern Italy)</a:t>
            </a:r>
            <a:endParaRPr b="0" lang="en-US" sz="3800" spc="-1" strike="noStrike">
              <a:solidFill>
                <a:srgbClr val="ffffff"/>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aldesi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rged more lay control of preaching, sacramen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athars (Albigensi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fluenced by religious movements in eastern Europ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hastity, vegetarianism, poverty</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pe Innocent III virtually destroys Cathar movement in 13</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a:t>
            </a: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D046DE0-3E5B-4C08-84A3-89220996A370}"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form of the Papacy!</a:t>
            </a:r>
            <a:endParaRPr b="0" lang="en-US" sz="4200" spc="-1" strike="noStrike">
              <a:solidFill>
                <a:srgbClr val="ffffff"/>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felt there was too much power in the hands of Kings and Lords and that the Church should control who or who was not in positions of power within the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sue comes to ahead with Pope Gregory VII (1073-1085) and King Henry IV (1056-1106) of German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greement by their successors in 1122 the Concordat of Worms.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2272E01-DD4B-4522-A703-F27F92EB2A42}"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cordat of Worms</a:t>
            </a:r>
            <a:endParaRPr b="0" lang="en-US" sz="4200" spc="-1" strike="noStrike">
              <a:solidFill>
                <a:srgbClr val="ffffff"/>
              </a:solidFill>
              <a:latin typeface="Garamond"/>
            </a:endParaRPr>
          </a:p>
        </p:txBody>
      </p:sp>
      <p:sp>
        <p:nvSpPr>
          <p:cNvPr id="187" name="PlaceHolder 2"/>
          <p:cNvSpPr>
            <a:spLocks noGrp="1"/>
          </p:cNvSpPr>
          <p:nvPr>
            <p:ph/>
          </p:nvPr>
        </p:nvSpPr>
        <p:spPr>
          <a:xfrm>
            <a:off x="457200" y="1142640"/>
            <a:ext cx="8153280" cy="4987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 bishop Calixtus, servant of the servants of God, do grant to thee beloved son, Henry-by the grace of God august emperor of the Romans-that the elections of the bishops and abbots of the German kingdom, who belong to the kingdom, shall take place in thy presence, without simony and without any violence; so that if any discord shall arise between the parties concerned, thou, by the counsel or judgment of the metropolitan and the co-provincials, may'st give consent and aid to the party which has the more right. The one elected, moreover, without any exaction may receive the regalia from thee through the lance, and shall do unto thee for these what he rightfully should. Be he who is consecrated in the other parts of the empire (i.e. Burgundy and Italy) shall, within six months, and without any exaction, receive the regalia from thee through the lance, and shall do unto thee for these what he rightfully should. Excepting all things which are known to belong to the Roman church. Concerning matters, however, in which thou dost make complaint to me, and dost demand aid-1, according to the duty of my office, will furnish aid to thee. I give unto thee true peace, and to all who are or have been on thy side in the time of this discord. </a:t>
            </a:r>
            <a:endParaRPr b="0" lang="en-US" sz="2100" spc="-1" strike="noStrike">
              <a:solidFill>
                <a:srgbClr val="ffffff"/>
              </a:solidFill>
              <a:latin typeface="Times New Roman"/>
            </a:endParaRPr>
          </a:p>
        </p:txBody>
      </p:sp>
      <p:sp>
        <p:nvSpPr>
          <p:cNvPr id="4" name="PlaceHolder 3"/>
          <p:cNvSpPr>
            <a:spLocks noGrp="1"/>
          </p:cNvSpPr>
          <p:nvPr>
            <p:ph type="sldNum" idx="3"/>
          </p:nvPr>
        </p:nvSpPr>
        <p:spPr/>
        <p:txBody>
          <a:bodyPr/>
          <a:p>
            <a:fld id="{C88589C6-4603-4293-A733-1C3513AB3D63}"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6840" y="228240"/>
            <a:ext cx="8381880" cy="624852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 the name of the holy and indivisible Trinity, I, Henry, by the grace of God august emperor of the Romans, for the love of God and of the holy Roman church and of our master pope Calixtus, and for the healing of my soul, do remit to God, and to the holy apostles of God, Peter and Paul, and to the holy catholic church, all investiture through ring and staff; and do grant that in all the churches that are in my kingdom or empire there may be canonical election and free consecration. All the possessions and regalia of St. Peter which, from the beginning of this discord unto this day, whether in the time of my father or also in mine, have been abstracted, and which I hold: I restore to that same holy Roman church. As to those things, moreover, which I do not hold, I will faithfully aid in their restoration. As to the possessions also of all other churches and princes, and of all other lay and clerical persons which have been lost in that war: according to the counsel of the princes, or according to justice, I will restore the things that I hold; and of those things which I do not hold I will faithfully aid in the restoration. And I grant true peace to our master pope Calixtus, and to the holy Roman church, and to all those who are or have been on its side. And in matters where the holy Roman church shall demand aid I will grant it; and in matters concerning which it shall make complaint to me I will duly grant to it justice. </a:t>
            </a:r>
            <a:endParaRPr b="0" lang="en-US" sz="2100" spc="-1" strike="noStrike">
              <a:solidFill>
                <a:srgbClr val="ffffff"/>
              </a:solidFill>
              <a:latin typeface="Times New Roman"/>
            </a:endParaRPr>
          </a:p>
        </p:txBody>
      </p:sp>
      <p:sp>
        <p:nvSpPr>
          <p:cNvPr id="3" name="PlaceHolder 2"/>
          <p:cNvSpPr>
            <a:spLocks noGrp="1"/>
          </p:cNvSpPr>
          <p:nvPr>
            <p:ph type="sldNum" idx="3"/>
          </p:nvPr>
        </p:nvSpPr>
        <p:spPr/>
        <p:txBody>
          <a:bodyPr/>
          <a:p>
            <a:fld id="{04818E0D-348F-40CC-9715-40FF7F61CEA3}"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rusading Orders</a:t>
            </a:r>
            <a:endParaRPr b="0" lang="en-US" sz="4200" spc="-1" strike="noStrike">
              <a:solidFill>
                <a:srgbClr val="ffffff"/>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Christians form military-religious order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mplars, Hospitallers, Teutonic Knigh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vows of opposition to Islam, paganis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nded churches and monasteri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3D435CF-6DEF-4109-A328-A35434927203}"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e-conquest of Sicily and Spain</a:t>
            </a:r>
            <a:endParaRPr b="0" lang="en-US" sz="4200" spc="-1" strike="noStrike">
              <a:solidFill>
                <a:srgbClr val="ffffff"/>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cily taken by Muslims in 9</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reconquered by Normans in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low displacement of Islam</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pportunity for cross-cultural fertilization</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wo small Christian states survive Muslim conquest</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come nucleus of reconquest, 1060s-1492</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 forceful assertions of Christian authorit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5A73BA8D-C0F6-430D-AD78-A7B43E1996AE}"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Beginning of the Crusades</a:t>
            </a:r>
            <a:endParaRPr b="0" lang="en-US" sz="4200" spc="-1" strike="noStrike">
              <a:solidFill>
                <a:srgbClr val="ffffff"/>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Urban II calls for liberation of Jerusalem from Muslim control, 1095</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alvation promised for casual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 enthusiastic respons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ter the Hermit raises popular frenzy, mob destroyed on way to Jerusale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8BC64183-FACF-4770-A1EB-4A30BF0A1427}"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First Crusade</a:t>
            </a:r>
            <a:endParaRPr b="0" lang="en-US" sz="4200" spc="-1" strike="noStrike">
              <a:solidFill>
                <a:srgbClr val="ffffff"/>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96-1099 more organized expedi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ptures Jerusalem, largely due to poor Muslim organiza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alah al-Din (Saladin) recaptures Jerusalem in 1187</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E3F0A96F-078D-4301-A84C-7BBF96CA8216}"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rusades</a:t>
            </a:r>
            <a:endParaRPr b="0" lang="en-US" sz="4200" spc="-1" strike="noStrike">
              <a:solidFill>
                <a:srgbClr val="ffffff"/>
              </a:solidFill>
              <a:latin typeface="Garamond"/>
            </a:endParaRPr>
          </a:p>
        </p:txBody>
      </p:sp>
      <p:pic>
        <p:nvPicPr>
          <p:cNvPr id="198" name="" descr=""/>
          <p:cNvPicPr/>
          <p:nvPr/>
        </p:nvPicPr>
        <p:blipFill>
          <a:blip r:embed="rId1"/>
          <a:stretch/>
        </p:blipFill>
        <p:spPr>
          <a:xfrm>
            <a:off x="1066680" y="1066680"/>
            <a:ext cx="6629400" cy="5105520"/>
          </a:xfrm>
          <a:prstGeom prst="rect">
            <a:avLst/>
          </a:prstGeom>
          <a:ln w="0">
            <a:noFill/>
          </a:ln>
        </p:spPr>
      </p:pic>
      <p:sp>
        <p:nvSpPr>
          <p:cNvPr id="3" name="PlaceHolder 2"/>
          <p:cNvSpPr>
            <a:spLocks noGrp="1"/>
          </p:cNvSpPr>
          <p:nvPr>
            <p:ph type="sldNum" idx="3"/>
          </p:nvPr>
        </p:nvSpPr>
        <p:spPr/>
        <p:txBody>
          <a:bodyPr/>
          <a:p>
            <a:fld id="{4E3B9E56-59E1-4371-92A4-5DD624FC5EA8}"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ater Crusades and their Consequences</a:t>
            </a:r>
            <a:endParaRPr b="0" lang="en-US" sz="3800" spc="-1" strike="noStrike">
              <a:solidFill>
                <a:srgbClr val="ffffff"/>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ve crusades by mid-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none successful</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Crusade destroys Constantinople, 1202-1204</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et Crusades provide direct contact with Muslim ideologies, trad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ristotle, “Arabic” numerals, paper productio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11DC3448-6777-401A-A467-B65AC103BDBA}"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European leadership of the</a:t>
            </a:r>
            <a:br>
              <a:rPr sz="3800"/>
            </a:br>
            <a:r>
              <a:rPr b="0" lang="en-US" sz="3800" spc="-1" strike="noStrike">
                <a:solidFill>
                  <a:srgbClr val="ffffff"/>
                </a:solidFill>
                <a:latin typeface="Garamond"/>
              </a:rPr>
              <a:t> Catholic Church</a:t>
            </a:r>
            <a:endParaRPr b="0" lang="en-US" sz="3800" spc="-1" strike="noStrike">
              <a:solidFill>
                <a:srgbClr val="ffffff"/>
              </a:solidFill>
              <a:latin typeface="Garamond"/>
            </a:endParaRPr>
          </a:p>
        </p:txBody>
      </p:sp>
      <p:sp>
        <p:nvSpPr>
          <p:cNvPr id="98" name="PlaceHolder 2"/>
          <p:cNvSpPr>
            <a:spLocks noGrp="1"/>
          </p:cNvSpPr>
          <p:nvPr>
            <p:ph/>
          </p:nvPr>
        </p:nvSpPr>
        <p:spPr>
          <a:xfrm>
            <a:off x="456840" y="1599840"/>
            <a:ext cx="62485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Bishop of Rome claimed he was the sole leader of the Western Christian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irst Bishop of Rome was the Apostle Peter who died during the reign of Nero </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ucified and hung upside down to suffer he is currently considered a martyr of the Christian faith </a:t>
            </a:r>
            <a:endParaRPr b="0" lang="en-US" sz="3000" spc="-1" strike="noStrike">
              <a:solidFill>
                <a:srgbClr val="ffffff"/>
              </a:solidFill>
              <a:latin typeface="Times New Roman"/>
            </a:endParaRPr>
          </a:p>
        </p:txBody>
      </p:sp>
      <p:pic>
        <p:nvPicPr>
          <p:cNvPr id="99" name="" descr=""/>
          <p:cNvPicPr/>
          <p:nvPr/>
        </p:nvPicPr>
        <p:blipFill>
          <a:blip r:embed="rId1"/>
          <a:stretch/>
        </p:blipFill>
        <p:spPr>
          <a:xfrm>
            <a:off x="6477120" y="3200400"/>
            <a:ext cx="2412720" cy="3124080"/>
          </a:xfrm>
          <a:prstGeom prst="rect">
            <a:avLst/>
          </a:prstGeom>
          <a:ln w="0">
            <a:noFill/>
          </a:ln>
        </p:spPr>
      </p:pic>
      <p:pic>
        <p:nvPicPr>
          <p:cNvPr id="100" name="" descr=""/>
          <p:cNvPicPr/>
          <p:nvPr/>
        </p:nvPicPr>
        <p:blipFill>
          <a:blip r:embed="rId2"/>
          <a:stretch/>
        </p:blipFill>
        <p:spPr>
          <a:xfrm>
            <a:off x="6781680" y="228600"/>
            <a:ext cx="2095560" cy="2562120"/>
          </a:xfrm>
          <a:prstGeom prst="rect">
            <a:avLst/>
          </a:prstGeom>
          <a:ln w="0">
            <a:noFill/>
          </a:ln>
        </p:spPr>
      </p:pic>
      <p:sp>
        <p:nvSpPr>
          <p:cNvPr id="4" name="PlaceHolder 3"/>
          <p:cNvSpPr>
            <a:spLocks noGrp="1"/>
          </p:cNvSpPr>
          <p:nvPr>
            <p:ph type="sldNum" idx="3"/>
          </p:nvPr>
        </p:nvSpPr>
        <p:spPr/>
        <p:txBody>
          <a:bodyPr/>
          <a:p>
            <a:fld id="{7F8510DB-AE2A-401B-973D-DF396FD6E162}"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Black Death 14</a:t>
            </a:r>
            <a:r>
              <a:rPr b="0" lang="en-US" sz="4200" spc="-1" strike="noStrike" baseline="30000">
                <a:solidFill>
                  <a:srgbClr val="ffffff"/>
                </a:solidFill>
                <a:latin typeface="Garamond"/>
              </a:rPr>
              <a:t>th</a:t>
            </a:r>
            <a:r>
              <a:rPr b="0" lang="en-US" sz="4200" spc="-1" strike="noStrike">
                <a:solidFill>
                  <a:srgbClr val="ffffff"/>
                </a:solidFill>
                <a:latin typeface="Garamond"/>
              </a:rPr>
              <a:t> Century </a:t>
            </a:r>
            <a:endParaRPr b="0" lang="en-US" sz="4200" spc="-1" strike="noStrike">
              <a:solidFill>
                <a:srgbClr val="ffffff"/>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adly bacteria (Yersinia pestis) carried on Black flea ridden rat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rried by travelers and Mongol nomad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vastates a 1/3 of the world’s population</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sequences </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creased trade</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hortages of workers increases the cost of labour</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ntal income declining</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government taxes leads to revolt!</a:t>
            </a:r>
            <a:endParaRPr b="0" lang="en-US" sz="26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A4BF1C1D-B158-435C-910B-BA9D0C60E49C}"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191120" y="457200"/>
            <a:ext cx="4724280" cy="3921120"/>
          </a:xfrm>
          <a:prstGeom prst="rect">
            <a:avLst/>
          </a:prstGeom>
          <a:ln w="0">
            <a:noFill/>
          </a:ln>
        </p:spPr>
      </p:pic>
      <p:pic>
        <p:nvPicPr>
          <p:cNvPr id="204" name="" descr=""/>
          <p:cNvPicPr/>
          <p:nvPr/>
        </p:nvPicPr>
        <p:blipFill>
          <a:blip r:embed="rId2"/>
          <a:stretch/>
        </p:blipFill>
        <p:spPr>
          <a:xfrm>
            <a:off x="533520" y="228600"/>
            <a:ext cx="3543120" cy="2657520"/>
          </a:xfrm>
          <a:prstGeom prst="rect">
            <a:avLst/>
          </a:prstGeom>
          <a:ln w="0">
            <a:noFill/>
          </a:ln>
        </p:spPr>
      </p:pic>
      <p:pic>
        <p:nvPicPr>
          <p:cNvPr id="205" name="" descr=""/>
          <p:cNvPicPr/>
          <p:nvPr/>
        </p:nvPicPr>
        <p:blipFill>
          <a:blip r:embed="rId3"/>
          <a:stretch/>
        </p:blipFill>
        <p:spPr>
          <a:xfrm>
            <a:off x="1600200" y="3048120"/>
            <a:ext cx="2395440" cy="3348000"/>
          </a:xfrm>
          <a:prstGeom prst="rect">
            <a:avLst/>
          </a:prstGeom>
          <a:ln w="0">
            <a:noFill/>
          </a:ln>
        </p:spPr>
      </p:pic>
      <p:sp>
        <p:nvSpPr>
          <p:cNvPr id="2" name="PlaceHolder 1"/>
          <p:cNvSpPr>
            <a:spLocks noGrp="1"/>
          </p:cNvSpPr>
          <p:nvPr>
            <p:ph type="sldNum" idx="3"/>
          </p:nvPr>
        </p:nvSpPr>
        <p:spPr/>
        <p:txBody>
          <a:bodyPr/>
          <a:p>
            <a:fld id="{AD451121-10EC-4768-8902-9EC15455E0D9}"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sequences of the Black Death</a:t>
            </a:r>
            <a:endParaRPr b="0" lang="en-US" sz="4200" spc="-1" strike="noStrike">
              <a:solidFill>
                <a:srgbClr val="fffff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nglish Peasant Revolt of 1381</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sily crushed by the land owners and the King but social unrest will forever be a characteristic of European history!</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itical Instability: The 100 Years War </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ventions: the longbow vs the crossbow (English), and the cannon (French)</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oan of Arc</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d 13</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and 14</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Centuri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ck of male heir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id Soldiers causing debt </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E9895AE6-D741-43F3-A038-75B9189AD2A1}"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ecline of the Church</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isaster of the Black Plagu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rench ability to tax the clerg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oving of the Pope to Avignon and the auspiciousness of wealth created criticism among Catholic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ove declines the stature of the Pope as he is no longer upheld by the pope St. Peter</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A5688F4-2DC2-4BDD-9082-0A790CCB1499}"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Great Schism </a:t>
            </a:r>
            <a:endParaRPr b="0" lang="en-US" sz="4200" spc="-1" strike="noStrike">
              <a:solidFill>
                <a:srgbClr val="fffff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lit between the Roman Catholic Church</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ench Pope at Avignon and Italian Pope in Rome</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th leaders described the other as the Anti-Christ causing undermining of the faith</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417 a compromise is made but the church will no longer have the influence over Kings and people has it once had.</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8082ADD-2628-4874-A41B-F7DC6FD2148A}" type="slidenum">
              <a:t>54</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ishop to Pope</a:t>
            </a:r>
            <a:endParaRPr b="0" lang="en-US" sz="4200" spc="-1" strike="noStrike">
              <a:solidFill>
                <a:srgbClr val="ffffff"/>
              </a:solidFill>
              <a:latin typeface="Garamond"/>
            </a:endParaRPr>
          </a:p>
        </p:txBody>
      </p:sp>
      <p:sp>
        <p:nvSpPr>
          <p:cNvPr id="102" name="PlaceHolder 2"/>
          <p:cNvSpPr>
            <a:spLocks noGrp="1"/>
          </p:cNvSpPr>
          <p:nvPr>
            <p:ph/>
          </p:nvPr>
        </p:nvSpPr>
        <p:spPr>
          <a:xfrm>
            <a:off x="0" y="1143000"/>
            <a:ext cx="68580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s the Bishop of Rome was considered to be Peter’s successors they be came known as Popes from the Latin word papa or father.</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the 6</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 papal authority of the Church in the West were concerting the pagan peoples of Germanic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reatest help in conversion were the monks and nuns who created monasteries for learning, hospitals, and scribes.</a:t>
            </a:r>
            <a:endParaRPr b="0" lang="en-US" sz="3000" spc="-1" strike="noStrike">
              <a:solidFill>
                <a:srgbClr val="ffffff"/>
              </a:solidFill>
              <a:latin typeface="Times New Roman"/>
            </a:endParaRPr>
          </a:p>
        </p:txBody>
      </p:sp>
      <p:pic>
        <p:nvPicPr>
          <p:cNvPr id="103" name="" descr=""/>
          <p:cNvPicPr/>
          <p:nvPr/>
        </p:nvPicPr>
        <p:blipFill>
          <a:blip r:embed="rId1"/>
          <a:stretch/>
        </p:blipFill>
        <p:spPr>
          <a:xfrm>
            <a:off x="6629400" y="457200"/>
            <a:ext cx="2192400" cy="3048120"/>
          </a:xfrm>
          <a:prstGeom prst="rect">
            <a:avLst/>
          </a:prstGeom>
          <a:ln w="0">
            <a:noFill/>
          </a:ln>
        </p:spPr>
      </p:pic>
      <p:pic>
        <p:nvPicPr>
          <p:cNvPr id="104" name="" descr=""/>
          <p:cNvPicPr/>
          <p:nvPr/>
        </p:nvPicPr>
        <p:blipFill>
          <a:blip r:embed="rId2"/>
          <a:stretch/>
        </p:blipFill>
        <p:spPr>
          <a:xfrm>
            <a:off x="6553080" y="3886200"/>
            <a:ext cx="2286000" cy="1512720"/>
          </a:xfrm>
          <a:prstGeom prst="rect">
            <a:avLst/>
          </a:prstGeom>
          <a:ln w="0">
            <a:noFill/>
          </a:ln>
        </p:spPr>
      </p:pic>
      <p:sp>
        <p:nvSpPr>
          <p:cNvPr id="4" name="PlaceHolder 3"/>
          <p:cNvSpPr>
            <a:spLocks noGrp="1"/>
          </p:cNvSpPr>
          <p:nvPr>
            <p:ph type="sldNum" idx="3"/>
          </p:nvPr>
        </p:nvSpPr>
        <p:spPr/>
        <p:txBody>
          <a:bodyPr/>
          <a:p>
            <a:fld id="{EE812F90-774F-4EBD-BD4B-38B152F9597A}"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Holy Roman Empire</a:t>
            </a:r>
            <a:endParaRPr b="0" lang="en-US" sz="42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to I of Saxony takes advantage of decline of Carolingian Empire to establish kingdom in north Germany, mid 10</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ilitary forays into eastern Europ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wice enters Italy to aid Roman Catholic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John XII names Otto Emperor of Holy Roman Empire, 962 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A649F0B-9A5E-47BD-8BB7-A36557DBDB9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harlemagne   (768-814)</a:t>
            </a:r>
            <a:endParaRPr b="0" lang="en-US" sz="4200" spc="-1" strike="noStrike">
              <a:solidFill>
                <a:srgbClr val="ffffff"/>
              </a:solidFill>
              <a:latin typeface="Garamond"/>
            </a:endParaRPr>
          </a:p>
        </p:txBody>
      </p:sp>
      <p:sp>
        <p:nvSpPr>
          <p:cNvPr id="108" name=""/>
          <p:cNvSpPr txBox="1"/>
          <p:nvPr/>
        </p:nvSpPr>
        <p:spPr>
          <a:xfrm>
            <a:off x="457200" y="990720"/>
            <a:ext cx="5181480" cy="5140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r>
              <a:rPr b="0" lang="en-US" sz="2600" spc="-1" strike="noStrike">
                <a:solidFill>
                  <a:srgbClr val="ffffff"/>
                </a:solidFill>
                <a:latin typeface="Times New Roman"/>
              </a:rPr>
              <a:t>Decisive, intelligent, inquisitive, and strong statesman, and a pious Christian”</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mpire covered much of western and central Europe used counts and missi dominici as overseers.</a:t>
            </a:r>
            <a:endParaRPr b="0" lang="en-US" sz="26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ssengers of the lord king</a:t>
            </a:r>
            <a:endParaRPr b="0" lang="en-US" sz="18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800, crowned Emperor of Rome</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de with Abbasid Empire</a:t>
            </a:r>
            <a:endParaRPr b="0" lang="en-US" sz="2600" spc="-1" strike="noStrike">
              <a:solidFill>
                <a:srgbClr val="ffffff"/>
              </a:solidFill>
              <a:latin typeface="Times New Roman"/>
            </a:endParaRPr>
          </a:p>
        </p:txBody>
      </p:sp>
      <p:pic>
        <p:nvPicPr>
          <p:cNvPr id="109" name="" descr=""/>
          <p:cNvPicPr/>
          <p:nvPr/>
        </p:nvPicPr>
        <p:blipFill>
          <a:blip r:embed="rId1"/>
          <a:stretch/>
        </p:blipFill>
        <p:spPr>
          <a:xfrm>
            <a:off x="5943600" y="228600"/>
            <a:ext cx="2679840" cy="5943600"/>
          </a:xfrm>
          <a:prstGeom prst="rect">
            <a:avLst/>
          </a:prstGeom>
          <a:ln w="0">
            <a:noFill/>
          </a:ln>
        </p:spPr>
      </p:pic>
      <p:sp>
        <p:nvSpPr>
          <p:cNvPr id="3" name="PlaceHolder 2"/>
          <p:cNvSpPr>
            <a:spLocks noGrp="1"/>
          </p:cNvSpPr>
          <p:nvPr>
            <p:ph type="sldNum" idx="3"/>
          </p:nvPr>
        </p:nvSpPr>
        <p:spPr/>
        <p:txBody>
          <a:bodyPr/>
          <a:p>
            <a:fld id="{97FDA5B6-8BAA-4225-88DF-CF13B827ED9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Ninth and Tenth Century:  Invasion</a:t>
            </a:r>
            <a:endParaRPr b="0" lang="en-US" sz="3800" spc="-1" strike="noStrike">
              <a:solidFill>
                <a:srgbClr val="ffffff"/>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cline of the Carolingian ruler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vasion by Muslims southern coasts of Europe and into Fra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gyars from western Asia form Hungary convert to Christianit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d the VIKING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53757B1-0E96-4A8C-B6DA-604A6EDC05FD}"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20:45:30Z</dcterms:created>
  <dc:creator>Henry Abramson</dc:creator>
  <dc:description/>
  <dc:language>en-US</dc:language>
  <cp:lastModifiedBy>ripkensa</cp:lastModifiedBy>
  <dcterms:modified xsi:type="dcterms:W3CDTF">2009-12-10T18:30:35Z</dcterms:modified>
  <cp:revision>21</cp:revision>
  <dc:subject/>
  <dc:title>Chapter 20</dc:title>
</cp:coreProperties>
</file>